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4361D-FECF-4605-9A50-F8A6DB39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E0CFE-7729-4DD9-B844-9FF6B6C2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4CF78-0F42-40E0-A7C4-3C535BEC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A8412-2D97-4872-B3CA-FC564795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24F5-1452-4850-A0B7-B0650D7B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D1EC-3337-4AC4-AA0E-BBD5A57F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CDBD-4D63-4C71-958C-A4F6A6D8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4CF9-794B-4E5D-8889-97029B5E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85ED-2868-47E3-9B88-5F23D6E6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6466-6014-4D0A-BF0E-C2CE839D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8934-AEA3-4479-B70B-EC332B46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4963A-FEA1-416D-863E-B9477EC1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AB66-6876-4CEA-B70F-1DEE3F3A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A649-C6FC-4B4D-9907-5296DF28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E489-ACC5-4BDA-9AA5-B288712A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A102-3056-40C3-ACA5-17AAB8FD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FCE2-9425-4B0F-A400-50E3E852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64AD2-FEEA-43A3-8864-6D95ED63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464BF-D928-4521-86B4-0ED6BBB8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16ACA-8F2A-4D12-8966-589296D6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5D2A3-899C-43F9-8401-30B93FF3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8C176-B368-4DED-8B0E-72FCC907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94DCE-5D7E-46E4-AD84-B60CDE93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F9E45-8BCB-45FB-8D1C-2DACC16D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EA9A-8950-41FC-B24B-B9EF5A693686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330000"/>
                </a:gs>
                <a:gs pos="100000">
                  <a:srgbClr val="7c07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0000"/>
                </a:gs>
                <a:gs pos="100000">
                  <a:srgbClr val="8225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330000"/>
                </a:gs>
                <a:gs pos="100000">
                  <a:srgbClr val="7c07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1BAC-B9BB-42B0-8E19-75290058663D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fghanista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ndu Ku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hyber P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19720" y="71424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3173400"/>
            <a:ext cx="5105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0% Far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legal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a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4467240" cy="3352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48769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b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htu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ji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76280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viet/Afghan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iban R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on T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2381040" cy="1629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400800" y="4800600"/>
            <a:ext cx="2610000" cy="1924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619600" y="2362320"/>
            <a:ext cx="3524400" cy="2325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962520" y="289548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533520" y="3733920"/>
            <a:ext cx="382896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for Iran Art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 does Iran blame for these protes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reporters and journalists allowed to report on the events taking place in Ir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eople were executed in Iran in January?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 for Article #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which country did these protests star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countries may be “immune” to these protests?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rticle says that a”barrier of _______ has been broken by these protes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is the King of Morrocco not being challenged by protes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are the protests in Iran different from those in Egyp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message is being sent to terrorist groups like Al Qaeda from these protes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 generational gap and how is this affecting these protes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4:42:07Z</dcterms:created>
  <dc:creator> John Doe</dc:creator>
  <dc:description/>
  <dc:language>en-US</dc:language>
  <cp:lastModifiedBy>Technology</cp:lastModifiedBy>
  <dcterms:modified xsi:type="dcterms:W3CDTF">2011-02-17T19:16:09Z</dcterms:modified>
  <cp:revision>4</cp:revision>
  <dc:subject/>
  <dc:title>Afghanistan</dc:title>
</cp:coreProperties>
</file>